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135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13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9340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030560" y="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97588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C9F72DE-FF2B-45AA-AD5D-475BC6396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2AEF896-72A7-4F46-B9F2-D27D737F4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75D009A-8968-403E-914C-6F0E9EB56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acronym stan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some background history related to MITRE overview whit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we seeking to formalize?  (validation, versioning, extensibility, ado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8D2ACEB-F303-4908-9E06-552A1470D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053266C-6383-4684-81F1-525D22ED4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D517F76-516B-4AA8-BFD6-437B34C5A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92B16BB-A582-47FB-A196-E6A1FFE19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 provides enough information to distinguish one remediation from another (i.e., yes, this is the remediation I am interested in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I provides additional information – possible references, preconditions, known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7572CE9-2935-4179-B34A-20045FF7B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D36-368C-43AD-90FC-5BDD069F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4D0-3559-47AB-874D-493EC859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7BB-114B-495F-95D6-B1C1C9DB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9A5-10E8-4FA6-B262-69228AA7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A7CD-7644-44EA-98A0-575E73E6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ACAF-F44E-4B2C-852C-A07425D6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321B-C55F-4317-A280-2A3A84DB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0C99-A226-4D74-A710-28DFD5A4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162E-6747-42BB-A50E-A9648BBD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C589-DD35-4D48-9F20-F0A6DF09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30E8-9125-456C-8B39-8612E607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666-4DC8-4BB6-A724-04220E42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6885-E70A-4AD1-BA14-62BBB54D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D41F-2ABB-47CA-9C19-C6BFF9EA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F62C-BF44-4EDB-B770-9EF3AFEB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48FB-7AD5-4796-B76F-95AE9466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F16A-76FF-4561-A225-616F319F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770-FA00-4F08-A451-30C54193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C5A-4208-42EC-9B03-0BD850FB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9B7-3B65-49C6-9214-B4077CBF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4FF-E736-4018-A382-4074AC7E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70C-AB5D-43E2-9D3D-B1F7C454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81B-7F17-4543-8352-BCD9271F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19E-DCF5-46E7-8D53-C7C87A27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1905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9AF0-DDD1-4886-8A54-7F79880057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4344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8E55-852D-40B4-9665-80073D34B1B0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istBlue"/>
          <p:cNvPicPr/>
          <p:nvPr/>
        </p:nvPicPr>
        <p:blipFill>
          <a:blip r:embed="rId2"/>
          <a:stretch/>
        </p:blipFill>
        <p:spPr>
          <a:xfrm>
            <a:off x="8001000" y="152280"/>
            <a:ext cx="990720" cy="3542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1447920" y="5562720"/>
            <a:ext cx="624816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Picture 8" descr="nistBlue"/>
          <p:cNvPicPr/>
          <p:nvPr/>
        </p:nvPicPr>
        <p:blipFill>
          <a:blip r:embed="rId2"/>
          <a:stretch/>
        </p:blipFill>
        <p:spPr>
          <a:xfrm>
            <a:off x="3886200" y="5791320"/>
            <a:ext cx="11430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1981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FF1D-40D3-445A-BEF5-C034CA6600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19360" y="6248520"/>
            <a:ext cx="4268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7643-1C6A-4E2A-8AB2-89E8136C9AB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david.waltermire@nist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1640" y="3428640"/>
            <a:ext cx="4343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Security Automation Developer Day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June 14-16, 2010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hris Johns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e National Institute of Standards and Technology (NIST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4040" y="1572480"/>
            <a:ext cx="79038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nterprise Remediation Automation Protocol (ERAP)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Other Activ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alidation strateg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endor outreach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sioning of identifier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ing a trust mod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81280" y="652320"/>
            <a:ext cx="72288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ontact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Arial"/>
              </a:rPr>
              <a:t>Contact Inf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Christopher Johns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National Institute of Standards and Technolog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hristopher.johnson@nist.gov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Arial"/>
              </a:rPr>
              <a:t>(301) 975-598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540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RAP components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Use Cas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apabil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 Sui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omponent Specifications Roadmap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62240" y="510120"/>
            <a:ext cx="469476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What is ERAP?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pr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di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oco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 of individually maintained, community developed, open specifications to provide a standardized approach to maintaining the security of enterprise syste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specifications establish conventions for identifying, describing and orchestrating remediation actions for the enterpris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P defines how these specification are used in concert to deliver capabilities to the security automation communit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standardized reference data -- ERAP Cont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10"/>
          <p:cNvSpPr/>
          <p:nvPr/>
        </p:nvSpPr>
        <p:spPr>
          <a:xfrm>
            <a:off x="304920" y="685800"/>
            <a:ext cx="8610480" cy="5562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ounded Rectangle 9"/>
          <p:cNvSpPr/>
          <p:nvPr/>
        </p:nvSpPr>
        <p:spPr>
          <a:xfrm>
            <a:off x="4572000" y="1295280"/>
            <a:ext cx="2819520" cy="480060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00600"/>
              <a:gd name="textAreaBottom" fmla="*/ 4663080 h 4800600"/>
            </a:gdLst>
            <a:ahLst/>
            <a:rect l="textAreaLeft" t="textAreaTop" r="textAreaRight" b="textAreaBottom"/>
            <a:pathLst>
              <a:path w="21600" h="36775">
                <a:moveTo>
                  <a:pt x="3600" y="0"/>
                </a:moveTo>
                <a:arcTo wR="3600" hR="3600" stAng="16200000" swAng="-5400000"/>
                <a:lnTo>
                  <a:pt x="0" y="33175"/>
                </a:lnTo>
                <a:arcTo wR="3600" hR="3600" stAng="10800000" swAng="-5400000"/>
                <a:lnTo>
                  <a:pt x="18000" y="36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1600200" y="1295280"/>
            <a:ext cx="2971800" cy="480060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800600"/>
              <a:gd name="textAreaBottom" fmla="*/ 4655520 h 4800600"/>
            </a:gdLst>
            <a:ahLst/>
            <a:rect l="textAreaLeft" t="textAreaTop" r="textAreaRight" b="textAreaBottom"/>
            <a:pathLst>
              <a:path w="21600" h="34891">
                <a:moveTo>
                  <a:pt x="3600" y="0"/>
                </a:moveTo>
                <a:arcTo wR="3600" hR="3600" stAng="16200000" swAng="-5400000"/>
                <a:lnTo>
                  <a:pt x="0" y="31291"/>
                </a:lnTo>
                <a:arcTo wR="3600" hR="3600" stAng="10800000" swAng="-5400000"/>
                <a:lnTo>
                  <a:pt x="18000" y="3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9393"/>
          </a:solidFill>
          <a:ln w="93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3960" y="3816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RAP Components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828800" y="3200400"/>
            <a:ext cx="2743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chine readable XM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ort resul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chestrate remedi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e machine stat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 Polic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66720" y="3276360"/>
            <a:ext cx="3124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rete remediation a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lemental remediation dat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exchange forma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905120" y="152388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ns of expr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ructions/Result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72000" y="1523880"/>
            <a:ext cx="2819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tions for identifying and describ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Rounded Rectangle 6"/>
          <p:cNvSpPr/>
          <p:nvPr/>
        </p:nvSpPr>
        <p:spPr>
          <a:xfrm>
            <a:off x="533520" y="1600200"/>
            <a:ext cx="3733560" cy="4952880"/>
          </a:xfrm>
          <a:custGeom>
            <a:avLst/>
            <a:gdLst>
              <a:gd name="textAreaLeft" fmla="*/ 182160 w 3733560"/>
              <a:gd name="textAreaRight" fmla="*/ 3551400 w 3733560"/>
              <a:gd name="textAreaTop" fmla="*/ 182160 h 4952880"/>
              <a:gd name="textAreaBottom" fmla="*/ 4770720 h 4952880"/>
            </a:gdLst>
            <a:ahLst/>
            <a:rect l="textAreaLeft" t="textAreaTop" r="textAreaRight" b="textAreaBottom"/>
            <a:pathLst>
              <a:path w="21600" h="28654">
                <a:moveTo>
                  <a:pt x="3600" y="0"/>
                </a:moveTo>
                <a:arcTo wR="3600" hR="3600" stAng="16200000" swAng="-5400000"/>
                <a:lnTo>
                  <a:pt x="0" y="25054"/>
                </a:lnTo>
                <a:arcTo wR="3600" hR="3600" stAng="10800000" swAng="-5400000"/>
                <a:lnTo>
                  <a:pt x="18000" y="28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85800"/>
            <a:ext cx="84582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t of community developed specif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Use Cas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09480" y="1752480"/>
            <a:ext cx="80773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RAP Use Cas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omprehens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ll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elect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 subset of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Independent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apply one or more remediations to one or more computing assets regardless of their current stat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905120" y="1828800"/>
          <a:ext cx="5243400" cy="3817800"/>
        </p:xfrm>
        <a:graphic>
          <a:graphicData uri="http://schemas.openxmlformats.org/drawingml/2006/table">
            <a:tbl>
              <a:tblPr/>
              <a:tblGrid>
                <a:gridCol w="1168200"/>
                <a:gridCol w="1484280"/>
                <a:gridCol w="2590920"/>
              </a:tblGrid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Remediation Enum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stablishes a common name and basic information about the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xtended Remediation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tains supplemental information about a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Control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vention for asserting which remediations are to be applied to specific as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Policy Languag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Ability to constrain remediation by asset 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format for reporting the results of an attempted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V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pen Vulnerability Remediation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Language for expressing the low level remediation 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Oval 16"/>
          <p:cNvSpPr/>
          <p:nvPr/>
        </p:nvSpPr>
        <p:spPr>
          <a:xfrm>
            <a:off x="609480" y="1828800"/>
            <a:ext cx="2210040" cy="129528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Naming &amp; Describ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609480" y="4952880"/>
            <a:ext cx="2210040" cy="685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_x0012_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Remedia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609480" y="4343400"/>
            <a:ext cx="2210040" cy="631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Repor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91200" y="204840"/>
            <a:ext cx="446616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apabil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609480" y="3124080"/>
            <a:ext cx="2210040" cy="121932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Orches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 Suit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ST will work with the community to develop a set of publications describing these enterprise remediation capabilities.  These publications will be hosted on the NIST Computer Security Resource Center (CSRC) website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Component Specifica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Data Exchange Forma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omponent Specifications Roadmap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Component Specification Roadmap (DRAFT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0: CRE, ERI, Policy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1: Control Language, Resul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2: Remediation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5:24:41Z</dcterms:created>
  <dc:creator/>
  <dc:description/>
  <cp:keywords/>
  <dc:language>en-US</dc:language>
  <cp:lastModifiedBy>sboczeno</cp:lastModifiedBy>
  <cp:lastPrinted>2009-04-22T19:24:48Z</cp:lastPrinted>
  <dcterms:modified xsi:type="dcterms:W3CDTF">2010-06-08T17:15:32Z</dcterms:modified>
  <cp:revision>1052</cp:revision>
  <dc:subject/>
  <dc:title>Security Content Automation Protocol and What It Means to Information Assu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